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C50-5CFC-4183-9AD5-EF81C353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C76-32FE-44F5-9B13-4F251CFB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F72-20F7-405B-A754-B4BACB8C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194-3E55-4C3B-B5A2-84CE58D7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002-BFEB-40DA-8094-C2019BB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E14-031F-44F4-86B1-45D1B1C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D5C-4937-487C-B5EC-23638BE5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6F7-36CA-4410-A16B-2C98686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CD0-813C-4476-8C80-6F03466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10C-032E-416D-8E82-81AE763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C24-DCD8-4A18-BB31-5B4A149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0C2-03C7-4D11-93D7-5EC9AD2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B85-69CC-4119-8030-9414F61349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3 – cross Jor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5 – circumcision; manna s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6 – Jeri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7-8 – 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9 – Gibeon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7 – Invasion and Conqu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-southern-northern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13:7 divide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1:43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lan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hua 24:29 Joshua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8 – Judg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judges – Rebellion, Repression, Repentance, Resc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Gideon and 300 men; Jephthah and daughter; Samson, Eli and wicked sons; Sam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8 – we want a king; Saul an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ed 3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9 –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– 1040–1000 B.C.; 1 Sam 15 – Amalek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– 1000-960 B.C.; preparation for the temple; 2 Sam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omon – 960-920(921) B.C.; temple began in 956 B.C.; wisdom, wives, id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 – Divid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21-721 B.C. – 2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rael – north – Jereboam – 10 tribes; calves at Dan and Beth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good kings; fell to Assyria in 721 B.C.—gone for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– south – Rehoboam – 2 tri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David  (2 Sam 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king when Israel f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1 – 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21-586 B.C. – 135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sseh evil king for 55 years; ultimate downfall of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– 31 good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usalem fell to Babylon (Nebuchadnezzar) in 586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2 –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-536 B.C. – 70 years (overl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6/605 B.C. first captivities taken; Daniel (image of Dan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97 B.C. second captivities taken; Ezeki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6 B.C. Jerusalem fell; 2 Kings 25:21; Judah carried away ca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6 B.C. – first return; decree of Cyrus king of Persia (Ezra 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9 B.C. –  Es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B.C. – Ezra – restored wo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5-443 B.C. – Nehemiah  (Neh 2:1, 13:6) – rebuilt walls  (52 day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3 – Return from Captiv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ubbabel – built temple (not like Solomon’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achi ends 443/43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er of image of Daniel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1 B.C. – Persia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4-323 B.C. – Alexander the G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 B.C. – Rome took Pal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 B.C. – Herod made king of Ju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B.C. – Herod’s temple beg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ke 1 – silence bro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eriods of Bible History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 – Years of Sil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00 year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o-Persians still in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ander  (Gree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abeean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Roman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 – Life of Chri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s of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ning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Galilean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t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of Min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rrection and Exal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Seed promise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 – Early Churc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2 – first gospel sermon; church established  (spiritual 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8 – Samaritans hear gos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0 – Cornelius, first Gentile 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s 13ff - Paul and Barnabas; gospel to Asia Minor, Greece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 – Letters to the Christi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, Peter, James, Jude, Joh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– Before the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 –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2 – Adam and Eve in the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3 – first s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(Gen 3:15 – first promise of Se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4 – Cain and 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5 – generations of Ad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– Floo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6 – wickedness; ark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7 – flood be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8 – waters re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9 – meat for food, capital punishment, rainbow promise, Noah’s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– Scattering of the Peo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11 – Plain of Shinar; Tower of Babel; confuse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– Patriarch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ru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-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, Isaac, Jacob (Isra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 12:1-3,7  promises to Abraham—Nation, Land, Seed  (Acts 3:25-2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sons; Joseph sold into Egypt; famine; family (70) moved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 – Exod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years have passed; Pharaoh arose who did not know Joseph; made sl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es—plagues; #10 death of firstborn; cross Red Sea; travel to Mt Sinai; m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nant, Law, Priesthood, Tabernacle;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nation promise fulfil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spies sent from Kadesh-Bar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 14:33 sentenced to wander forty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16 – Korah, Dathan, and Abiram re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0 – Miriam dies; sin of Moses “must we bring water”; Edom refuses passage; Aaron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 – Wanderings in the Wildern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1 – bronze serpent  (John 3: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2 – Balaam and Bar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6 – second census; all over 20 years old had died except Joshua and Cal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27 – Joshua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34 –  Moses dies; ready to enter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1:39:57Z</dcterms:created>
  <dc:creator>Wayne Holt</dc:creator>
  <dc:description/>
  <dc:language>en-US</dc:language>
  <cp:lastModifiedBy>Wayne Holt</cp:lastModifiedBy>
  <dcterms:modified xsi:type="dcterms:W3CDTF">2003-08-09T21:32:15Z</dcterms:modified>
  <cp:revision>7</cp:revision>
  <dc:subject/>
  <dc:title>1 – Before the Flood</dc:title>
</cp:coreProperties>
</file>